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C19A-AA47-4BE8-AC1D-889C5E78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4D4-D30C-437D-A10B-4D74C227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2DE4-FCCD-475D-8043-4E8CA33E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ADF9-4FAA-43A3-8CA0-670B3085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D0DD-B317-4000-8AB2-BECB18D2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CF5-A8E6-478F-86D9-58DD81F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412-E770-4EC2-B512-915653B2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5B2-082C-4EB0-A19A-1E91800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4FF-C7C1-4930-A6C4-36BEB230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B69F-4858-44B4-8A8D-C77CD47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5131-D668-472B-8EAA-9902569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C8A2-3BC3-4CB1-AC74-E8954D2C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7D007-9091-4154-958F-32F7E99D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9200" y="58680"/>
            <a:ext cx="93283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800"/>
            </a:br>
            <a:br>
              <a:rPr sz="4800"/>
            </a:b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Our Goals for Today:</a:t>
            </a:r>
            <a:br>
              <a:rPr sz="4800"/>
            </a:b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480" y="2590560"/>
            <a:ext cx="807696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nish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odeling of Step One in Process of Unit Planning, Assign Our Culminating Project/Performance Task, Complete Process for Step One For Your Un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One:  Browse through Curriculum Map and Standards for BSD 9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anguage Arts.  What do we noti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wo:  Consider Q3 unit (no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our:  Choose the “Core Tasks” for the unit.  Remember no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on too many. (We Chose  Repeat Step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(Wilhelm p. 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ns and Adjective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Ideas (Essential Q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war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es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ocri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tra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bs—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Task/Culminating Project Ide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200320"/>
            <a:ext cx="424152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and Contr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5920" y="2200320"/>
            <a:ext cx="424188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ust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s 5 and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ive:  Brainstorm at Least three Essential Question Ideas (see UBD ch. 4 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Question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63604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(UBD chapter 7 and Wilhelm p. 6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t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7600" y="294840"/>
            <a:ext cx="9664920" cy="19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t Purpose and Identify Desired Results:  First Step in Unit Planning Process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7600" y="1834920"/>
            <a:ext cx="966492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One:  Look at the Curriculum Map for the unit you will use for the Annotated Unit Plan Portfol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le notable Nouns and Adjectives (stated or implied Big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t a box around notable Verbs (performance task/culminating project idea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Three:  Look at the instructional and performance 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nes are addressed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our:  From the instructional and performance objectives (standards)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the “Core Tasks” for the unit.  Remember not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n to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. (We Chose   Repeat Step Tw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Five:  Brainstorm Essential Question Ideas (see UBD ch. 4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helm p.49-5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ix:  Test against checklist (Wilhelm p.4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Seven:  Brainstorm possible performance tasks/culminat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Wilhelm p. 6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ere We Are Headed Nex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er process to planning for your u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dentify skills necessary for completing performance task and acceptable evidence of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Backwards Plan/Plan Learning Experiences and Instru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SD</cp:lastModifiedBy>
  <dcterms:modified xsi:type="dcterms:W3CDTF">2011-02-09T22:44:12Z</dcterms:modified>
  <cp:revision>3</cp:revision>
  <dc:subject/>
  <dc:title>PowerPoint Presentation</dc:title>
</cp:coreProperties>
</file>